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0A6A-FAA5-466C-90CC-B59471DE3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D8F-CCBE-4914-B917-50BA0DB697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8E7-6A76-4D18-BF54-3AD1C16560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D607-2CCC-4EF5-B40B-3CE8E6C05F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127-808E-48A9-8278-AE56EF7FF6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314-7096-40AE-A4D3-3FE1BB628A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B1C-E150-4815-9E62-3120687D91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9B90-8CD0-4838-9F17-9012740F1D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445-BADD-41FE-A757-3881AACBFA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B54-EC8D-437A-99EB-63A873BF69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727-27EB-4E53-9D28-1F654B47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C6A-6D38-4A55-BA38-DD85B32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6B33D-27DF-4164-9F34-102137E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0CC28-95E3-4C97-96AF-13A5D1D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A1AA3-3110-4B66-AC5E-858C5FA9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F7ADF-F98D-41D3-9EF6-574D9EF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73EFF-A6A7-45F2-9CEF-5209F9D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75CFA-353A-4AB7-9F20-1566F67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342C4-36F0-4178-99D1-741CFD2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4F9569-A045-42C4-AF46-C487878D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20E37-DA48-4DF2-93C3-49247A64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F35-FF0F-4941-95BC-E6B36DD1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127-4AED-4CDB-82EE-2A02268D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9DDF8-562F-463B-8B79-84EEED6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06F8D-912E-432B-88D7-6938F2D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42173-E418-4213-9B8D-AC8C06AD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4892D-0FBE-4960-B827-EE48B78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C7D87-D11D-4595-9E9A-C382F43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C4DDB-9F1B-41FA-8E92-954B48D3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1BA55-FB7B-476F-A293-4DA469F1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6C7-C834-4929-919E-73C6FE90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EFB40-88BC-4A77-BB13-CFA5ADB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4FD3E-941F-4CF2-8378-0B5AA9A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CA08-3821-4FC7-84F5-96FFBB6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12118-3098-47AC-849F-11E576FB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EDC9-EC0C-4A7F-832D-583C086B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CB16-D15F-4314-BB8C-05EC50C4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CDA4-6C7B-4F31-8A3A-6E7DFC34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D996-54D5-4875-9B23-40D3E17E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9124-365C-48ED-B986-4A941D2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CBE4-5169-4031-94C9-34B0CEE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B90-2226-46C1-B410-0BC10C8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7229-A5A8-4544-A7F4-D768A08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ADF6-70AB-4C3B-B12F-93C5498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4BE8-4CA6-4D06-87B1-949D4EEA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5DD0-0BEA-4858-AB22-DEE703F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3AEC-5549-4BF1-986F-91E24DF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DCC0-5F34-42FB-9E0B-B14A177E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AF63-480C-4219-AF14-6BA27C3B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D8F9F-4B27-41C2-806F-BE44DBE4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2588C-B281-4757-9BDF-E6C8CBF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1A50C-6091-4CAB-932B-7308B792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5F7-8888-469F-88D3-6EFEBAC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F4028-326F-4F32-B09C-EBD6848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107F5-21DC-4B67-BC94-E5714AD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B9210-7386-45A6-9CE9-046E92B7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F2C7C-C1B2-4875-A4C8-0CBE444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1DA49-254D-4BEA-B969-9E92790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9FD8E-44AD-48E0-BC24-7DD8300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39B86-CE1E-4AEE-9467-82D0E00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0E8D2-A890-4FDB-9A2A-10EFA76E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0F101-5219-4906-8C45-D1E1106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F180-D675-4B4E-8661-4087C794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5CC-6224-46F0-A811-32CC539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DBCF-0D50-403C-B202-CC04131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0871-25AC-40FA-B1F3-653CAAC4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DA94-7ACB-4D9B-A811-2F8A8E5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026A-C70E-4212-B0A4-307F837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0A86-57F1-44CC-83D0-EB36DCB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8AA7-154D-42F5-9B01-BE8B500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7FA8-56DF-4987-B7C6-7AB5CCE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F3E2-A804-462A-818A-A14B555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BF1F-E34C-42E6-BC86-8EECF583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88A2-5EA6-4467-93D2-007FF7F7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B54-2336-47CB-9025-EBC35D3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00DA-38FF-46E0-B0FD-093EEEE0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26F0-2F20-4E0A-802E-29515E97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794C-A8AE-4A52-9F9C-94E15996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68C3-2124-4D13-A164-305BA81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256D-02CC-432A-A2CB-86D8449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3F6D-EA00-4CB1-B513-56814194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12A6-5383-4A3B-84B9-04A27D78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D385-D1F2-47D8-AA70-1282873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2443-43B5-4AE5-AE91-FE69A514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C171-FC91-4DA6-8552-71C3C4D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C9E-DF14-4A9D-9375-907C158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6F4FF-C2D2-46E8-9B42-29510EF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8287-1437-4785-9289-417BF993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44DE-E575-4F25-968A-4F767FD1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C42A-8FDA-4BEE-8B66-09A2C47B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D67AB-4C89-4278-A1AD-9BE63F2C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139E-1D3A-460F-9A10-C68F09F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91F6-D05D-4E0E-A4F3-833F547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00DF-FE5E-432B-9979-85C96EC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9848-3BB7-4790-912C-40E4741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BDC4B-72CE-4CB1-B0EF-655BA76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F3F-94BA-4B75-BCD6-7403B1A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A26C-A6BC-4258-9AB6-07B38CE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A01BE-A50A-4A35-BAF0-439D1F9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B9D01-B2F5-489F-902B-20FA760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2E4A7-915C-447E-979F-A252D463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DA7D-C5C7-420F-9C04-D0F2B59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11E14-470B-4F64-ABE6-A6C6FFAE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7B13A-0E7D-4480-A575-6BDB200E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BEBE6-79B5-4038-876A-624E8CB0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28A271-3743-4507-8A1F-44AA6C6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87634-18EB-453A-A80F-1E3851E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031-791F-48B2-8064-05A3FD1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A2AA1-36A6-4F23-94CA-D520183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2FB98-4F15-4253-A1CA-8F2CD280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9E2B2-CAF8-4254-9B6A-0331F59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963D8-8530-40A3-9DA8-7532D70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6E050-BBAC-4A1F-BDA3-1E6B3C7F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DCDA3-2034-45D8-B9E0-0630D6A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BD4C4-ADC9-4ABA-B40C-190C858F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71106-A0B6-45A5-BE17-70274748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73AF4-899A-40F7-84F9-BE081E9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F6C2C-111C-4065-B442-375039B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FC8-7F07-497F-8E10-DF7BD15FEF6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31C-2AD1-4D0B-9BAA-17BE121A7C40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1131-3E2D-4131-8087-E1757B280BF1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B1B-A07F-439E-A6A7-94623456513E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3A8-5DE6-4F8B-8A06-1CA4C81F0FF8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31A-820C-433D-A48F-BC538DC2C391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EDCE-2239-47D6-90AF-97143CC168C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46E-609C-43EB-953E-136D4695DA5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4B76-FF0C-46FB-82B3-944BC05E23D9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4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homeostasis and give two examp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nline book Scavenger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OGIN:  STU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WORD:  BLANK (don’t type anything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0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wo biological molecules w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talked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bout in class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hange of plans…we’re going to the writing lab to finsish the scavenger hunt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IMPORTANT: Add the following questions to your sheet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9.  In chapter 1:  Activities and Quizzes --Complete the “Biology and Ecology” Concept Map – show me when your done (mints for the least wrong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10.  Go to Fieldbio.wikispaces.com.   Under “Biology” and then under “Biology Notes and Assignments” open the PowerPoint for this chapter.  Write 5 review questions for the clas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5 minutes – work on Online Book Scav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t of class – discuss the remaining characteristics of life and the domains of life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 because of adaptations which made them more successful than oth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aptation –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rait that improves an organisms chance of surviva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09480" y="373860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51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251240" y="11793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, unicel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32960" y="19447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, mostly multicellua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2"/>
          <a:stretch/>
        </p:blipFill>
        <p:spPr>
          <a:xfrm>
            <a:off x="450720" y="-5335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763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* –  relative simple organization (algae, amoeba, euglena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743200" y="2389320"/>
            <a:ext cx="6400800" cy="4468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33520" y="419112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Eukaryotic (usually multicellu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5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two types of reproduction?  How do they diff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8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you studying if you stud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logy –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any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Zoology -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 (responsivenes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272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281916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952880" y="471024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380880" y="4116240"/>
            <a:ext cx="3886200" cy="2741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3341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Characteristics of Life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Biological Molecu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biological molecule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514600"/>
            <a:ext cx="320040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4386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2514600"/>
            <a:ext cx="19814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971800"/>
            <a:ext cx="17524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971800"/>
            <a:ext cx="21333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429000"/>
            <a:ext cx="23619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3429000"/>
            <a:ext cx="1524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2971800"/>
            <a:ext cx="1523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10-09-10T14:18:14Z</dcterms:modified>
  <cp:revision>63</cp:revision>
  <dc:subject/>
  <dc:title>The World of Biology</dc:title>
</cp:coreProperties>
</file>